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55DE-8D05-4DE6-B61A-69EB4D35F91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conflicts with the previous slide - it says that members choose to participate - this one states all must particip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1FC-E72C-41CB-943A-C71EBD5B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CF4-7B62-4C0D-9A64-B70E28F1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14D-BE96-4725-8987-DD0C31F17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F86-649B-429E-B2FD-6768EF84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0392-47E3-4751-A3A0-92E657B4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96AB-6945-40B8-9CED-9F922DD2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ABED-7E18-42DF-80B9-8AA43145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CF3-43BD-4025-AFEE-A379F251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75C0-9895-4A08-A412-44DBA1E8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3237-0B2F-4528-90EA-A04460A2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561-2778-44D0-9EB9-7E26890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16E-53A5-4325-AE60-7194F00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900A-D5D3-448D-B557-7C8B07D2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DC1B-9969-47A2-A5B4-0C47139F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FD91-E0E6-46BD-81FB-48351C47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7453-C326-4BDB-B946-62BC9DD9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CB58-3FAF-45DA-8B3A-EA56415D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DAE-AE11-4A02-80E4-F743743C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4870-6635-4C99-B264-E691185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CFE-0763-4FAC-9AF9-0983E37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21B-4EB1-4428-AC1A-45D06CE8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41C-C360-424F-80C3-623FBB73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2E55-2E65-4864-80C4-D6CCA5C4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43B-9865-4504-A0B7-3ECCD0F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5733-1EDA-4947-8C6D-C70DA4DC6E1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ECFE-AD45-45DB-AE64-DCAD155D82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rt Group Names 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eachers are sitting in the teachers’ lounge during their conference period and having a powerful discussion on a new Special Education student in their classrooms who has moved in from another district and is presenting behavior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grade team plans a unit around Dr. Seuss with the common expectation that students will orally report on their favorite Dr Seuss boo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h teachers discussing how Math is taught across the traditional structural boundaries of grade level and subject matter with a common goal of improving number sense in all students at the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1640" y="53352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ever felt alone as a teac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ic level of intellectual interaction among teach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es not require teachers to share valu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bedded video on this sl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tual learning and discussion of classroom pract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ion of student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lesson pla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aid in providing consistent expect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llegi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579132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3 C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llabo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ual decision making to resolve problems of pract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onships built around communal experience and interests of all school me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focus on student lear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Build Collabo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are exposed to how things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’ work is tied to meaningful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mbers choose to particip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ly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include all members of the faculty and staf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ime must be set a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ff must have support and encouragement to become sta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04:01:25Z</dcterms:created>
  <dc:creator>Paul Pabian</dc:creator>
  <dc:description/>
  <dc:language>en-US</dc:language>
  <cp:lastModifiedBy>Paul Pabian</cp:lastModifiedBy>
  <dcterms:modified xsi:type="dcterms:W3CDTF">2007-02-05T03:11:24Z</dcterms:modified>
  <cp:revision>4</cp:revision>
  <dc:subject/>
  <dc:title>The 3 C’s</dc:title>
</cp:coreProperties>
</file>